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910-3ED1-4437-A6EC-55A611AC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F9B-D030-42EB-A3D2-820240FE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F5B-6CFB-41DF-A139-D36FB7F5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F8F-71F7-4BA9-B3DB-D879B7F0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8B4-7EDA-4338-9878-3664993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855-B0B3-4781-A65E-4A4229F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C38-575C-4CBA-A68C-2940B62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EA4-2E31-4B50-A95A-434B67EC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84B-436F-45A1-A79A-DCCED4F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9E6-9ABD-4374-8302-7C21FF8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E03-EAF5-4AFB-B949-CB74AC94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F54-4E85-43AD-A2FD-7F8C58A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F64E-7FCC-483B-85F4-A8E64785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907920"/>
            <a:ext cx="6562800" cy="469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lothes 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lements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09640" y="92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752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neckla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3656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111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sunglass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528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35160" y="1773360"/>
            <a:ext cx="2895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earring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77640" y="92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handba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9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481040"/>
            <a:ext cx="76197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583272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3656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2360" y="3333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260280"/>
            <a:ext cx="42832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glov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921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Platform bo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9640" y="235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wal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4920" y="235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pur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260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ring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Comic Sans MS"/>
              </a:rPr>
              <a:t>bel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280" y="19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90800" y="1676520"/>
            <a:ext cx="5162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Mini-sk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93640" y="921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t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0600" y="1438200"/>
            <a:ext cx="4762800" cy="398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720" y="260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Bow-t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82472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9800" y="333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brace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5440" y="476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scar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364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752400"/>
            <a:ext cx="4876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7:47:56Z</dcterms:created>
  <dc:creator>I.E.S. FEDERICO GARCIA LORCA</dc:creator>
  <dc:description/>
  <dc:language>en-US</dc:language>
  <cp:lastModifiedBy>PROFESOR</cp:lastModifiedBy>
  <dcterms:modified xsi:type="dcterms:W3CDTF">2010-04-07T10:50:54Z</dcterms:modified>
  <cp:revision>3</cp:revision>
  <dc:subject/>
  <dc:title>Diapositiva 1</dc:title>
</cp:coreProperties>
</file>